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14101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33E9-903D-402F-9766-F4125E6A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9D38-145F-4320-832E-BAE82B16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7EFE-8A8E-4F57-839C-00314F4A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4CB2-DA42-43FD-B803-6E32D0B2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7528-2C84-4292-92BC-9FBE5DF5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FA27-24E6-4EBC-8FC5-D5F45D65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7B81-6B10-48E5-AB92-9AF2D422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533B-CC4A-48BA-B9A4-41454749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2EFF-F7E0-4396-B3E4-EA06E92A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41B6-FEF9-4FFF-A9D7-73805879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380D-D20D-4A19-9E0B-41C33990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6F7C-3986-4C1D-8D0A-8B223F0A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fld id="{DF51D2D2-272F-4C7F-98EF-B6056DB04E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15011280" cy="10515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8600" y="524160"/>
            <a:ext cx="1633320" cy="224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iliul Judeţean Vâlc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919440"/>
            <a:ext cx="1504800" cy="2246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OLEGIUL DIR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8515080" y="748800"/>
            <a:ext cx="10080" cy="1710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7562880" y="1285560"/>
            <a:ext cx="1905120" cy="346680"/>
          </a:xfrm>
          <a:prstGeom prst="rect">
            <a:avLst/>
          </a:prstGeom>
          <a:solidFill>
            <a:srgbClr val="ebeb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ţia Generală de Asistenţă Socială şi Protecţia Copilului - Vâlc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3" idx="2"/>
            <a:endCxn id="45" idx="0"/>
          </p:cNvCxnSpPr>
          <p:nvPr/>
        </p:nvCxnSpPr>
        <p:spPr>
          <a:xfrm flipH="1">
            <a:off x="8515440" y="1144080"/>
            <a:ext cx="9720" cy="1418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7734240" y="1751400"/>
            <a:ext cx="1562040" cy="37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IRECTOR EXECUTIV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2"/>
            <a:endCxn id="47" idx="0"/>
          </p:cNvCxnSpPr>
          <p:nvPr/>
        </p:nvCxnSpPr>
        <p:spPr>
          <a:xfrm flipH="1">
            <a:off x="8515080" y="1632240"/>
            <a:ext cx="720" cy="1195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391000" y="903960"/>
            <a:ext cx="1447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DE EXPERTIZĂ persoane adult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1"/>
            <a:endCxn id="49" idx="0"/>
          </p:cNvCxnSpPr>
          <p:nvPr/>
        </p:nvCxnSpPr>
        <p:spPr>
          <a:xfrm flipV="1" rot="10800000">
            <a:off x="6114600" y="636120"/>
            <a:ext cx="1584000" cy="26784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0344240" y="919800"/>
            <a:ext cx="14475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PENTRU PROTECŢIA 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2" idx="3"/>
            <a:endCxn id="51" idx="0"/>
          </p:cNvCxnSpPr>
          <p:nvPr/>
        </p:nvCxnSpPr>
        <p:spPr>
          <a:xfrm>
            <a:off x="9331920" y="636480"/>
            <a:ext cx="1736280" cy="28368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4724280" y="2479680"/>
            <a:ext cx="2133720" cy="46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Protectie a Copilulu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77240" y="2440080"/>
            <a:ext cx="2286000" cy="590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A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sistenţă Soc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30200" y="2446920"/>
            <a:ext cx="1905120" cy="621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66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Econom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djunct Economic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0240" y="3113280"/>
            <a:ext cx="1523880" cy="68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, monitorizare, strategii, programe, proiecte în domeniul asistenţei sociale şi protecţ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00240" y="396792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udit int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00240" y="45014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irou Resurse Um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 / 1 /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00240" y="49586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Juridic Conten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00240" y="541584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Mass-Media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şi relaţii cu publicu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94900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M - P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3047760" y="4267080"/>
            <a:ext cx="194328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Secretariat Comisie pentru Protect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386064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, testare, pregătire, monitoriza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532116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protecţie de tip rezidenţ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46004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iompartiment  pentru îngrijire de tip famil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în domeniul protecţiei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0004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isitenţă şi sprijin pentru protecţia şi promovarea drepturilor copilului - Birouri Zon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6686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 complexă a copilului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/ 1 /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3" idx="2"/>
            <a:endCxn id="62" idx="3"/>
          </p:cNvCxnSpPr>
          <p:nvPr/>
        </p:nvCxnSpPr>
        <p:spPr>
          <a:xfrm rot="5400000">
            <a:off x="4588200" y="2378880"/>
            <a:ext cx="633600" cy="17719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3" idx="2"/>
            <a:endCxn id="63" idx="3"/>
          </p:cNvCxnSpPr>
          <p:nvPr/>
        </p:nvCxnSpPr>
        <p:spPr>
          <a:xfrm rot="5400000">
            <a:off x="4994640" y="2785320"/>
            <a:ext cx="633600" cy="9590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3" idx="2"/>
            <a:endCxn id="64" idx="3"/>
          </p:cNvCxnSpPr>
          <p:nvPr/>
        </p:nvCxnSpPr>
        <p:spPr>
          <a:xfrm flipH="1" rot="16200000">
            <a:off x="5725440" y="3013560"/>
            <a:ext cx="633600" cy="5022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3" idx="2"/>
            <a:endCxn id="65" idx="3"/>
          </p:cNvCxnSpPr>
          <p:nvPr/>
        </p:nvCxnSpPr>
        <p:spPr>
          <a:xfrm rot="5400000">
            <a:off x="5364720" y="3155040"/>
            <a:ext cx="633600" cy="2192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3200400" y="5563080"/>
            <a:ext cx="1828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5  / 2005 - 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ti maternali profesionisti -</a:t>
            </a:r>
            <a:r>
              <a:rPr b="1" i="1" lang="en-US" sz="1000" spc="-1" strike="noStrike">
                <a:solidFill>
                  <a:srgbClr val="cc0000"/>
                </a:solidFill>
                <a:latin typeface="Arial Narrow"/>
              </a:rPr>
              <a:t> 415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944320"/>
            <a:ext cx="19810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mpartimentul evaluare, testare, pregăti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634896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dopţie, post-adopţie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65" idx="2"/>
            <a:endCxn id="74" idx="3"/>
          </p:cNvCxnSpPr>
          <p:nvPr/>
        </p:nvCxnSpPr>
        <p:spPr>
          <a:xfrm flipH="1">
            <a:off x="5715000" y="4552920"/>
            <a:ext cx="124200" cy="1893240"/>
          </a:xfrm>
          <a:prstGeom prst="bentConnector3">
            <a:avLst>
              <a:gd name="adj1" fmla="val -188662"/>
            </a:avLst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3886200" y="655380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lasament familial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65" idx="2"/>
            <a:endCxn id="76" idx="3"/>
          </p:cNvCxnSpPr>
          <p:nvPr/>
        </p:nvCxnSpPr>
        <p:spPr>
          <a:xfrm flipH="1">
            <a:off x="5715000" y="4552920"/>
            <a:ext cx="124200" cy="2098080"/>
          </a:xfrm>
          <a:prstGeom prst="bentConnector3">
            <a:avLst>
              <a:gd name="adj1" fmla="val -18866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 rot="16200000">
            <a:off x="1504800" y="7562520"/>
            <a:ext cx="1371600" cy="41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8 / 1 / 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573120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nchete sociale, consiliere pentru părinţi şi cop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6" idx="1"/>
            <a:endCxn id="79" idx="1"/>
          </p:cNvCxnSpPr>
          <p:nvPr/>
        </p:nvCxnSpPr>
        <p:spPr>
          <a:xfrm flipH="1" rot="16200000">
            <a:off x="6915960" y="5580720"/>
            <a:ext cx="30384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7162920" y="5955120"/>
            <a:ext cx="24382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regătirea şi sprijinirea integrării-reintegrării copilului î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6" idx="1"/>
            <a:endCxn id="81" idx="1"/>
          </p:cNvCxnSpPr>
          <p:nvPr/>
        </p:nvCxnSpPr>
        <p:spPr>
          <a:xfrm flipH="1" rot="16200000">
            <a:off x="6804000" y="5692680"/>
            <a:ext cx="52776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162920" y="618048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nsiliere, intervenţie până la stabilirea unei măsuri de protecţ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640440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valuare copil care a săvârşit faptă penală şi nu ră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2920" y="662976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integrarea si sprijinirea copiilor repatri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66" idx="1"/>
            <a:endCxn id="83" idx="1"/>
          </p:cNvCxnSpPr>
          <p:nvPr/>
        </p:nvCxnSpPr>
        <p:spPr>
          <a:xfrm flipH="1" rot="16200000">
            <a:off x="6691320" y="5805360"/>
            <a:ext cx="753120" cy="191160"/>
          </a:xfrm>
          <a:prstGeom prst="bentConnector4">
            <a:avLst>
              <a:gd name="adj1" fmla="val 43998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66" idx="1"/>
            <a:endCxn id="84" idx="1"/>
          </p:cNvCxnSpPr>
          <p:nvPr/>
        </p:nvCxnSpPr>
        <p:spPr>
          <a:xfrm flipH="1" rot="16200000">
            <a:off x="6579360" y="5917320"/>
            <a:ext cx="977040" cy="191160"/>
          </a:xfrm>
          <a:prstGeom prst="bentConnector4">
            <a:avLst>
              <a:gd name="adj1" fmla="val 45374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66" idx="1"/>
            <a:endCxn id="85" idx="1"/>
          </p:cNvCxnSpPr>
          <p:nvPr/>
        </p:nvCxnSpPr>
        <p:spPr>
          <a:xfrm flipH="1" rot="16200000">
            <a:off x="6466680" y="6030000"/>
            <a:ext cx="1202400" cy="191160"/>
          </a:xfrm>
          <a:prstGeom prst="bentConnector4">
            <a:avLst>
              <a:gd name="adj1" fmla="val 46241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4001840" y="358704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economic şi financiar-contab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01840" y="418068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tehnic şi administrat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001840" y="465228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chiziţii publice şi aprovizion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20920" y="526320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format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55" idx="3"/>
            <a:endCxn id="89" idx="3"/>
          </p:cNvCxnSpPr>
          <p:nvPr/>
        </p:nvCxnSpPr>
        <p:spPr>
          <a:xfrm>
            <a:off x="14935320" y="2757240"/>
            <a:ext cx="285840" cy="10486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55" idx="3"/>
            <a:endCxn id="90" idx="3"/>
          </p:cNvCxnSpPr>
          <p:nvPr/>
        </p:nvCxnSpPr>
        <p:spPr>
          <a:xfrm>
            <a:off x="14935320" y="2757240"/>
            <a:ext cx="285840" cy="15814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55" idx="3"/>
            <a:endCxn id="91" idx="3"/>
          </p:cNvCxnSpPr>
          <p:nvPr/>
        </p:nvCxnSpPr>
        <p:spPr>
          <a:xfrm>
            <a:off x="14935320" y="2757240"/>
            <a:ext cx="285840" cy="211392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4935320" y="2743200"/>
            <a:ext cx="295560" cy="2664720"/>
          </a:xfrm>
          <a:prstGeom prst="bentConnector3">
            <a:avLst>
              <a:gd name="adj1" fmla="val 17756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 rot="16200000">
            <a:off x="200016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45 / 1 / 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495520" y="7562880"/>
            <a:ext cx="1371600" cy="41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soci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0 / 2 / 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37908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tip rezidenţial pentru recuperarea copilului cu dizabilităţ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2 / 1 / 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4390920" y="7495920"/>
            <a:ext cx="1371600" cy="55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Pinocchio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6  / 1 /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101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8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5 / 1 /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56768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rezidential de recuperare a tinerilori cu afectiuni neuropsih.  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9 / 1 / 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3817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comunitare  pentrun copilul cu dizabilit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4 / 1 / 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70675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 11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 Bistriţ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6 / 1 / 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77533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Adăpost temporar pentru copilul delincvent şi din strad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0 / 1 /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/>
          <p:nvPr/>
        </p:nvCxnSpPr>
        <p:spPr>
          <a:xfrm rot="5400000">
            <a:off x="4893120" y="5698080"/>
            <a:ext cx="1564200" cy="1293120"/>
          </a:xfrm>
          <a:prstGeom prst="bentConnector3">
            <a:avLst>
              <a:gd name="adj1" fmla="val 84046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 rot="16200000">
            <a:off x="24764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udor Vladimires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 12 / 1 / 11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3124080" y="914400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sistenţă familială şi comunitară si violenta im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33cc"/>
                </a:solidFill>
                <a:latin typeface="Arial Narrow"/>
              </a:rPr>
              <a:t>( 3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55627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familial pentru copilul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61722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t. Copilul abuzat,neglijat,exploat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819840" y="918216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de zi de ingrijire si recuperare pentru copilu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2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/>
          <p:nvPr/>
        </p:nvCxnSpPr>
        <p:spPr>
          <a:xfrm flipH="1" rot="16200000">
            <a:off x="7659720" y="911520"/>
            <a:ext cx="3215160" cy="1999440"/>
          </a:xfrm>
          <a:prstGeom prst="bentConnector3">
            <a:avLst>
              <a:gd name="adj1" fmla="val -6662"/>
            </a:avLst>
          </a:prstGeom>
          <a:ln w="0">
            <a:noFill/>
          </a:ln>
        </p:spPr>
      </p:cxnSp>
      <p:cxnSp>
        <p:nvCxnSpPr>
          <p:cNvPr id="113" name=""/>
          <p:cNvCxnSpPr>
            <a:stCxn id="54" idx="2"/>
            <a:endCxn id="114" idx="3"/>
          </p:cNvCxnSpPr>
          <p:nvPr/>
        </p:nvCxnSpPr>
        <p:spPr>
          <a:xfrm flipH="1" rot="16200000">
            <a:off x="9866160" y="3183840"/>
            <a:ext cx="551520" cy="24336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54" idx="2"/>
            <a:endCxn id="116" idx="3"/>
          </p:cNvCxnSpPr>
          <p:nvPr/>
        </p:nvCxnSpPr>
        <p:spPr>
          <a:xfrm flipH="1" rot="16200000">
            <a:off x="10217160" y="2833200"/>
            <a:ext cx="551520" cy="94500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54" idx="2"/>
          </p:cNvCxnSpPr>
          <p:nvPr/>
        </p:nvCxnSpPr>
        <p:spPr>
          <a:xfrm>
            <a:off x="10020240" y="3030120"/>
            <a:ext cx="2223360" cy="558000"/>
          </a:xfrm>
          <a:prstGeom prst="straightConnector1">
            <a:avLst/>
          </a:prstGeom>
          <a:ln w="0">
            <a:noFill/>
          </a:ln>
        </p:spPr>
      </p:cxnSp>
      <p:sp>
        <p:nvSpPr>
          <p:cNvPr id="114" name=""/>
          <p:cNvSpPr/>
          <p:nvPr/>
        </p:nvSpPr>
        <p:spPr>
          <a:xfrm rot="16200000">
            <a:off x="929160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ul protecţie de tip rezidenţial in domeniul asistentei sociale a persoanelor adul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99932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lternative de tip familial si prevenirea institutionalizar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114109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ntisaracie, prevenirea marginalizarii sociale  si promovarea incluziunii sociale a persoanelor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07251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  protectie speciala a persoanelor adulte- Secretariat Comisie de Expertiza Medical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 / 1 / 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120967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terventie in regim de urgenta in domeniul asistentei sociale a persoanelor adulte -Telefonul Adult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54" idx="2"/>
            <a:endCxn id="120" idx="3"/>
          </p:cNvCxnSpPr>
          <p:nvPr/>
        </p:nvCxnSpPr>
        <p:spPr>
          <a:xfrm flipH="1" rot="16200000">
            <a:off x="11268720" y="1781280"/>
            <a:ext cx="551520" cy="30484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101347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Lung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68 / 1 / 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083960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Zatr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9 / 1 / 1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238256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atrica-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4 / 1 / 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131634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reabilitare neuropsihiatrica Maciu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6 / 1 / 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725280" y="891576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entrul judeţean de asistenţă sanitară şi famil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725280" y="9075600"/>
            <a:ext cx="2514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Monitorizare, evaluare şi protecţie a persoanelor şi familiilor aflate în dificulta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ineri proveni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 din sistemul rezidenţial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şi familiilor aflate în situaţie de risc so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/>
          <p:nvPr/>
        </p:nvCxnSpPr>
        <p:spPr>
          <a:xfrm flipH="1" rot="16200000">
            <a:off x="10990800" y="5467680"/>
            <a:ext cx="3174120" cy="3210480"/>
          </a:xfrm>
          <a:prstGeom prst="bentConnector3">
            <a:avLst>
              <a:gd name="adj1" fmla="val 38112"/>
            </a:avLst>
          </a:prstGeom>
          <a:ln w="19080">
            <a:solidFill>
              <a:srgbClr val="cc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12725280" y="9598680"/>
            <a:ext cx="2286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victime ale violenţei domestice şi a celor aflate în situaţie de Abuz,Neglijenta,Trafic  si Migr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725280" y="9878760"/>
            <a:ext cx="24386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ţă socio-medicală de îngrijire la domiciliu şi centre de zi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ersoane vârstnice şi adulte cu afecţiuni cro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erapie ocupaţională şi integrare profesion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socializare persoan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54" idx="2"/>
            <a:endCxn id="119" idx="3"/>
          </p:cNvCxnSpPr>
          <p:nvPr/>
        </p:nvCxnSpPr>
        <p:spPr>
          <a:xfrm flipH="1" rot="16200000">
            <a:off x="10582920" y="2467080"/>
            <a:ext cx="551520" cy="16768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54" idx="2"/>
            <a:endCxn id="118" idx="3"/>
          </p:cNvCxnSpPr>
          <p:nvPr/>
        </p:nvCxnSpPr>
        <p:spPr>
          <a:xfrm flipH="1" rot="16200000">
            <a:off x="10926000" y="2124360"/>
            <a:ext cx="551520" cy="23626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1887200" y="616320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pecială şi asigurarea drepturilor legale a persoanelor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887200" y="640116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Monitorizare, pregătire, testare şi evaluare asistenţi person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19" idx="1"/>
            <a:endCxn id="135" idx="1"/>
          </p:cNvCxnSpPr>
          <p:nvPr/>
        </p:nvCxnSpPr>
        <p:spPr>
          <a:xfrm flipH="1" rot="16200000">
            <a:off x="11424240" y="5796720"/>
            <a:ext cx="735840" cy="190800"/>
          </a:xfrm>
          <a:prstGeom prst="bentConnector4">
            <a:avLst>
              <a:gd name="adj1" fmla="val 43857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19" idx="1"/>
            <a:endCxn id="136" idx="1"/>
          </p:cNvCxnSpPr>
          <p:nvPr/>
        </p:nvCxnSpPr>
        <p:spPr>
          <a:xfrm flipH="1" rot="16200000">
            <a:off x="11305080" y="5915880"/>
            <a:ext cx="973800" cy="190800"/>
          </a:xfrm>
          <a:prstGeom prst="bentConnector4">
            <a:avLst>
              <a:gd name="adj1" fmla="val 45340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12573000" y="5825160"/>
            <a:ext cx="15238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ocială şi relaţii cu ONG-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18" idx="1"/>
            <a:endCxn id="139" idx="1"/>
          </p:cNvCxnSpPr>
          <p:nvPr/>
        </p:nvCxnSpPr>
        <p:spPr>
          <a:xfrm flipH="1" rot="16200000">
            <a:off x="12278880" y="5627880"/>
            <a:ext cx="397800" cy="19080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 rot="16200000">
            <a:off x="746748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- Telefonul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53" idx="2"/>
            <a:endCxn id="141" idx="3"/>
          </p:cNvCxnSpPr>
          <p:nvPr/>
        </p:nvCxnSpPr>
        <p:spPr>
          <a:xfrm flipH="1" rot="16200000">
            <a:off x="6798600" y="1940400"/>
            <a:ext cx="633600" cy="2648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53" idx="2"/>
            <a:endCxn id="67" idx="3"/>
          </p:cNvCxnSpPr>
          <p:nvPr/>
        </p:nvCxnSpPr>
        <p:spPr>
          <a:xfrm flipH="1" rot="16200000">
            <a:off x="6408000" y="2331000"/>
            <a:ext cx="633600" cy="18673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53" idx="2"/>
            <a:endCxn id="66" idx="3"/>
          </p:cNvCxnSpPr>
          <p:nvPr/>
        </p:nvCxnSpPr>
        <p:spPr>
          <a:xfrm flipH="1" rot="16200000">
            <a:off x="6064920" y="2673720"/>
            <a:ext cx="633600" cy="1181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162920" y="10592280"/>
            <a:ext cx="19810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nsiliere pentru copil Abuzat,Neglijat, Exploata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10363680"/>
            <a:ext cx="2743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Recuperare medico-sociala a copilului Abuzat, Neglijat, Exploata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43036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sistenţă,  protecţie si reintegrare tineri în dificult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47" idx="1"/>
            <a:endCxn id="147" idx="1"/>
          </p:cNvCxnSpPr>
          <p:nvPr/>
        </p:nvCxnSpPr>
        <p:spPr>
          <a:xfrm flipV="1" rot="10800000">
            <a:off x="1218960" y="1939320"/>
            <a:ext cx="6515280" cy="770400"/>
          </a:xfrm>
          <a:prstGeom prst="bentConnector3">
            <a:avLst>
              <a:gd name="adj1" fmla="val 103558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9677520" y="9907920"/>
            <a:ext cx="20574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640728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. Medico-so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Times New Roman"/>
              </a:rPr>
              <a:t>8 / 1 / 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60958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3427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 de primire in regim de urgenta 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914400" y="74674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ff"/>
                </a:solidFill>
                <a:latin typeface="Times New Roman"/>
              </a:rPr>
              <a:t>PIN 1/2005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de integrare socioprofesionala a  tinerilor din sistemul .de protec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 /1 /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895356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ul de zi pt.recuperare neuromotorie -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3 / 1 / 1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1051560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10134720"/>
            <a:ext cx="0" cy="533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1066788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3124080" y="746748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2  / 2005 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 familial pt.copi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58 / 1 / 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5063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20192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 15 / 1 /  1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116204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rntrul de Ingrijire si asist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usesti Maglas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8 / 1 / 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820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344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210680" y="6858000"/>
            <a:ext cx="3657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868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028840" y="58672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4495680"/>
            <a:ext cx="7596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4495680"/>
            <a:ext cx="0" cy="1600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028840" y="60958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2133720"/>
            <a:ext cx="0" cy="152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2286000"/>
            <a:ext cx="8229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209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61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666880"/>
            <a:ext cx="0" cy="3886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352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41148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4648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51055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5638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65530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210680" y="5486400"/>
            <a:ext cx="0" cy="13716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1824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501360" y="632160"/>
            <a:ext cx="9748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exa nr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944600" y="81648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.Aparat propriu = 158 (din care)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944600" y="119268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.DPC (centre plasament copii) = 6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944600" y="159912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.AMP = 4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020920" y="1852560"/>
            <a:ext cx="14475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tal Gener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65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635040"/>
            <a:ext cx="2133720" cy="437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GRA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.G.A.S.P.C. VALCEA-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6858000"/>
            <a:ext cx="213336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960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1880" y="6858000"/>
            <a:ext cx="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64771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5248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combatrerea violentei domest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210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43200" y="8610480"/>
            <a:ext cx="11430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677520" y="10058400"/>
            <a:ext cx="22096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ESEDIN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umitru B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106520" y="55627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106520" y="579132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859000" y="5791320"/>
            <a:ext cx="0" cy="8380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4478120" y="662940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8120" y="6629400"/>
            <a:ext cx="0" cy="4572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13830120" y="7505640"/>
            <a:ext cx="1371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terventie in regim de urgenta pt.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142640" y="6858000"/>
            <a:ext cx="38862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344400" y="1600200"/>
            <a:ext cx="1371600" cy="571680"/>
          </a:xfrm>
          <a:prstGeom prst="rect">
            <a:avLst/>
          </a:prstGeom>
          <a:solidFill>
            <a:srgbClr val="ccccff">
              <a:alpha val="50000"/>
            </a:srgbClr>
          </a:solidFill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Asistenta Medico-sociala Ladesti -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10167840"/>
            <a:ext cx="2743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care a savirsit o fapta penala si nu raspunde penal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3 / 2005-VL *-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repatriat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8839080"/>
            <a:ext cx="0" cy="16765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1036332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1051560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9677160" y="6858000"/>
            <a:ext cx="5331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6775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746748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de consilier parinti / copi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2</a:t>
            </a: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8610480"/>
            <a:ext cx="19047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53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380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066320" y="8839080"/>
            <a:ext cx="3812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84582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8534520"/>
            <a:ext cx="609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38480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zi de recuperare neuromotorie -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1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85345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8458200"/>
            <a:ext cx="0" cy="3808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296280" y="1905120"/>
            <a:ext cx="304812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277720" y="1543680"/>
            <a:ext cx="10666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Unitate cu personalitate juri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277720" y="1951920"/>
            <a:ext cx="9903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Coordonare metodolog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2420720" y="868680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420720" y="8686800"/>
            <a:ext cx="0" cy="1295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420720" y="8991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420720" y="91440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420720" y="96775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420720" y="99820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801600" y="9067680"/>
            <a:ext cx="18288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877920" y="922032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801600" y="9753480"/>
            <a:ext cx="20574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801600" y="1005840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944600" y="140076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.DAS (centre ingrijire adulti) = 457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944600" y="1019880"/>
            <a:ext cx="1600200" cy="17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36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 conducere =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325480" y="628560"/>
            <a:ext cx="8384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Numar postur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6:28:25Z</dcterms:created>
  <dc:creator>Win98</dc:creator>
  <dc:description/>
  <dc:language>en-US</dc:language>
  <cp:lastModifiedBy>Angela</cp:lastModifiedBy>
  <cp:lastPrinted>2006-01-17T10:50:46Z</cp:lastPrinted>
  <dcterms:modified xsi:type="dcterms:W3CDTF">2006-01-25T11:48:38Z</dcterms:modified>
  <cp:revision>94</cp:revision>
  <dc:subject/>
  <dc:title>No Slide Title</dc:title>
</cp:coreProperties>
</file>